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5FFE-673C-4A71-92FF-C5937ACBB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7514-B92F-4D3E-9B19-ABF9545FAF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5A09C-D8D5-4DE5-9EE3-494D902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E052B3-C03E-47E9-B563-1CBFA93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0DB86-5B54-4278-B54C-C35B6DEE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B70A10-C066-478B-B6CA-656383B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3CD6F-1F85-44F9-B725-F98AA090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8EC9B-0740-4A96-850D-09EFC82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153421-4C3C-42B7-9D0B-AF70D7B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CD810-F7E0-48FF-BB0E-DEF7569F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A7617-7167-4CDE-8568-DC9889A4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1FC3B-DC9B-47A8-8D42-3DBA30BB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8304-B1D6-4DDA-9885-4EA297FF74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E0701-B201-4BA8-A4FF-015A785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1168B-FB55-47ED-93F3-734B6E4D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1142E-7051-45C0-AD2C-5B0F5C0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60095-B980-402B-B5BB-DCB9B2E9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C177F-AB23-4D09-9FC1-600E549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EE9F7-1467-4444-8060-CD5D9060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AC7C2-5285-4747-8864-103682C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1AD5A-948F-4DC3-B4BB-D704DFE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99493-AB4F-498C-9FAE-3787822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54A63-B1A2-437A-A2EE-D23FCD08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0C3B-E61E-4BF2-B57D-6F4A4ECA66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F556A-088C-4BC8-9547-713B9E17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140A7-EEEE-4C8A-985D-B6845D74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FCC99-3C41-45B6-A9B3-AE9AB894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F9D3B-C36C-49B6-B869-609FC0AF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97D7B-B736-45C0-8939-3495478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7FFBA-29D4-412F-B865-4E7E4FC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31653-DCF2-4D64-98EE-BC96725A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E04D5-90BF-46BD-8BEC-1550244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697C9-A9AA-4C96-9491-6F66529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B062D-8F69-4884-942D-B87F32C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EBAFB-DE69-42FD-A78D-27CF6ABB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ED5E2-A942-45A1-89E3-310712F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90C16-062B-42DE-8212-72E4EEA6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90997-7421-42EB-AEA6-3DFC293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ED0B35-7A34-4B05-9C0D-D3E59745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89EB2-E241-4571-A69E-108FAA4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69414F-0942-4B09-B34D-138E41E3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466EC1-A207-4E34-B3D5-1987509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D0ED1D-2BCF-4901-BD04-7F71A354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6EFC5B-C60F-44D6-AEAE-A393E98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81A212-D22C-41C1-934D-66AA16B1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36EE-8E32-4596-941F-75E9FDD5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B02097-8168-4FBC-A843-E5F3E3F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B62C24-D40D-4960-BAB4-EC35C58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6E2BB1-7C2D-4821-9325-BF46676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ADB6B6-F405-4360-B010-20FDFC98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DBE81E-0659-46E0-8A35-1ED97BD8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6F973-CDD3-4969-870E-F25D2A4D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B94CD-7700-474D-84C7-E881EF47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36CD1-B71B-4936-A338-3C344EC0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616DC-BB36-4F50-A8D6-C2708EDB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C2AC0-2478-4D92-9463-23601AD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D92D6-E5B7-473B-9179-A578E8F9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5B36B-EE2C-46E4-8580-88FE7DFF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D2E7A-9772-4445-A917-B7863857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51ED1-35CE-4B70-B022-BFE411F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2F69D-5EE4-42FD-A052-B47AABC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9EC05-A96E-455D-A438-A38AE61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DC07B-87DD-4E13-A066-4D0506D1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604EA-1ABE-4D7E-8352-01E2A3CF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21A40-C8C0-4C28-9FD9-EBE4CF1B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CDE53-337F-4B65-A920-FBD3F10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F9FAE-9B0E-46F3-8FBF-B6BC31EF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3BBEF-4C4E-4894-8786-ED70731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1721-C547-40E5-9E9A-FE5592ED2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8FFAC-AF46-4737-83E5-5408430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65EED-6A0A-41BE-8591-E5474EB7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DBAEC-4055-4CAE-B45F-7910AC27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D1E08-575F-426C-B151-B7DCBA45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B17E3-A799-4A58-BD04-E8023B6D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4E30-B48F-4A04-8F80-F582948E08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214B8-9646-4D37-A92B-7B4E9D83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6C2E0-F3CE-4E00-BDF4-B0D4033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EC38F-7256-40B8-AE9A-28D647D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818E-1113-4827-A017-C54B26310D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193ED-2730-432E-84EA-E79F047F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B4B1B6-AC19-4D83-9D7C-462916DA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40683-D42E-4C7F-9714-AC8148C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72F6B-6599-4009-AFFA-AD3EAD5C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42033-706E-46FD-BD48-88033D8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33FAB-6A93-4FE9-B0C2-0BA89EC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986D8-74E6-47B3-9AF1-B4F720BD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1184EF-DE0E-4CD0-AB9C-6F186479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923A9-E556-465F-9E90-E8DC36A1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F5F4A-2E41-4CAF-8A2E-4FA2627A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FD8D-9612-42A7-A96B-0D0BFA28B5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FE736-C9EC-48BC-B1FB-3D19E75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E2061-53BC-4CDB-8E11-EF60300F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321BD-FE65-4779-A6CF-CD94768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37CBF-F574-446C-AD01-5BD06951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60A582-8138-469E-817F-4404C19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42F06-6CBB-469B-A685-0B65586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9CAE7-2FEB-4B02-A96D-619C675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5E6DD-00A5-4765-9ED4-F10453DE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F6CE0-0DCD-442F-9672-93F1247E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6F4CA-316D-45A1-8182-1A7BAE9F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9F0D-F0C0-4C12-8775-F6342C6A2C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D2474-4552-4163-B8B8-E9CEB490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076BB4-CF78-4873-B370-85C9829D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3DC39-4C16-4F38-AB5B-62CBD01D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94993D-C370-4ECA-8F70-D8D34C03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C92B5-9324-4F00-BBA4-B264FE93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16126-C1F8-4C80-B8B7-8CD23EB6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9635C-BFA2-48FF-B94F-CAAEA20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F30C7-64EC-4BFC-8283-A1296F5D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4F26C4-F106-4028-8CA8-A9BAF1BA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28397-D22F-49C4-A4A6-8058E6D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26F4-31C5-430D-B460-955AE2EC4E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FBFC9B-2459-47EC-AF6F-7CC5F27A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B70EA-32A0-497C-A3F7-D37FBC7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5254D-0108-4857-AEFB-E1482032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4D631-2BF2-48A1-B6A4-37BC48DD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C2DB7-B777-4D63-8577-0E5F708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C2F1F-2C13-4B26-BBFC-C6A1CBB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200055-F3FD-4C89-8955-1E0F115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FCD68-7F5D-4E09-ACEF-787B5378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4BB2F-DE66-4D10-9EE9-A9D8CB0D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FB13D-CD9B-4BB3-A62D-6D10E913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39AF-4877-4D60-BAF7-454CB5C743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63958C-17B8-4F49-A2A7-0C48FC0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422D2-508C-4133-AA5C-D82604C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1CF4B-23B8-4452-90C7-9DB1D68B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54541-8F62-4822-A1DA-06DEF6F3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07A5C5-9E6F-490C-9454-58F04699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6D8AE3-95DA-4771-B8F8-7F53EFCF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3E938-5A3C-4028-B844-197DB27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FFE8E9-21F5-404F-A944-D482AE7B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FE9DE-4D31-4161-AEB7-8CD58D30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008C72-8A6B-4DD9-A771-DE80FA6B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4C0C-D926-451B-9B38-E81586D7304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4B1855-645F-449B-8032-283CD6DB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CBC78-09E7-4884-B93C-1CC0819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7878C3-CC63-4FE5-8367-3A57B34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9E9E2E-554D-4F54-ADE1-230BF68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A92377-1E76-46C5-AF2E-8FB9075D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7AD15-3D7B-4891-B64A-89012305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488C67-CF0E-4FB9-982B-ACDD16B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EBBB55-D94A-4DD3-9D07-B5A9E47F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504E2-44BF-4B3E-B289-9DC86CD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3D825-D5B8-438A-A197-B2D3879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EBD6-FAC2-486A-9399-27928192A2E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3BB3-2DE9-4602-9943-AF84A28CC9D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4B3-3C38-4C6C-AC52-05AD033B228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736-EC83-40FF-A4EB-18AE85BC490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AD8-468A-4DB7-AA6E-AACB8A5E5D0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D56B-29A0-4734-B55A-8CFECF4CAC8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FDB-2E8C-4CFE-92FB-8D0C2102D08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86AB-195C-41A5-9AE0-9AFE52ECEB8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A94F-4993-44CA-9DBB-30727CA09CB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2538-BC7B-4811-8517-ABEEC64C0CA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E19F-D0E0-46FE-BF55-76A0750B525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923-938D-4F04-B834-D3ED09ADAB9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19280" y="2590560"/>
            <a:ext cx="5905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PI Debrie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Process M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February 3 - 7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1219320" y="1484280"/>
          <a:ext cx="7391160" cy="4943520"/>
        </p:xfrm>
        <a:graphic>
          <a:graphicData uri="http://schemas.openxmlformats.org/drawingml/2006/table">
            <a:tbl>
              <a:tblPr/>
              <a:tblGrid>
                <a:gridCol w="1301760"/>
                <a:gridCol w="6089400"/>
              </a:tblGrid>
              <a:tr h="112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 Performance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s giving files to ATM at day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iting time for response from CB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219320" y="1484280"/>
          <a:ext cx="7391160" cy="4943520"/>
        </p:xfrm>
        <a:graphic>
          <a:graphicData uri="http://schemas.openxmlformats.org/drawingml/2006/table">
            <a:tbl>
              <a:tblPr/>
              <a:tblGrid>
                <a:gridCol w="1301760"/>
                <a:gridCol w="6089400"/>
              </a:tblGrid>
              <a:tr h="112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-design Layout of Rexdale Rece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1219320" y="1484280"/>
          <a:ext cx="7391160" cy="4943520"/>
        </p:xfrm>
        <a:graphic>
          <a:graphicData uri="http://schemas.openxmlformats.org/drawingml/2006/table">
            <a:tbl>
              <a:tblPr/>
              <a:tblGrid>
                <a:gridCol w="1301760"/>
                <a:gridCol w="6089400"/>
              </a:tblGrid>
              <a:tr h="112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ment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ination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ise cancelling headph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1219320" y="1484280"/>
          <a:ext cx="7391160" cy="4943520"/>
        </p:xfrm>
        <a:graphic>
          <a:graphicData uri="http://schemas.openxmlformats.org/drawingml/2006/table">
            <a:tbl>
              <a:tblPr/>
              <a:tblGrid>
                <a:gridCol w="1301760"/>
                <a:gridCol w="6089400"/>
              </a:tblGrid>
              <a:tr h="112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ate Visual Work Instructions Pract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Other Improvement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xx improvement ideas were flagged during the mapp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A025-AE98-4676-A913-AB0D9FACA795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2D1-199C-4C64-93DE-930B4F1460BE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 comprehensive review has not been performed for som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umerous pain points require atten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ed to review the Central Region ID process to fine tune and to identify improvements to make it run smooth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1F3-2106-414D-80EF-0760DD91D047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36194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D Particip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Ren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Rh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utside E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Carol Ham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Colleen Mah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Facilit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rk Jar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347480" y="550692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onsor:  Susan Bib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0" y="-55440"/>
            <a:ext cx="9174240" cy="69134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Interview Observations - Strength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19A8-866E-4E05-872B-235AC224843A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Mapped Proce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06D-4C85-4935-B464-EBFB62C5EAAA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219320" y="2819520"/>
          <a:ext cx="7391160" cy="2601720"/>
        </p:xfrm>
        <a:graphic>
          <a:graphicData uri="http://schemas.openxmlformats.org/drawingml/2006/table">
            <a:tbl>
              <a:tblPr/>
              <a:tblGrid>
                <a:gridCol w="3857400"/>
                <a:gridCol w="1871640"/>
                <a:gridCol w="1662120"/>
              </a:tblGrid>
              <a:tr h="96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1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ntion Revi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ssibility Hea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87280" y="4929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CE7A-7028-4E05-B61C-38F28678BC8A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Just Do It” Improv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RSO quality assurance will no longer be done as a bat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Schedulers will look at changes in NOVA before scheduling 7 day and 30 day revie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Registry will conduct a Lunch &amp; Learn for Windows 7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When the Registry photocopier is in use, others will use the fax machine for small copies, and the other photocopier for large amounts of cop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Cases will be charged out for ED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Incorrect requests from Federal Court will be flagged to the Deputy Regist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The Clerk will create the package for transcripts at point of receiving the reque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EFFA-A53A-4055-84D7-ED92BFE56E34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219320" y="1484280"/>
          <a:ext cx="7391160" cy="5330880"/>
        </p:xfrm>
        <a:graphic>
          <a:graphicData uri="http://schemas.openxmlformats.org/drawingml/2006/table">
            <a:tbl>
              <a:tblPr/>
              <a:tblGrid>
                <a:gridCol w="1301760"/>
                <a:gridCol w="6089400"/>
              </a:tblGrid>
              <a:tr h="1119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 awareness of Registry-Member inte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s hold on to files causing big delays and means that Registry might not be able to perform work before next detention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s not looking at schedules when booking hear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s could use Iris’ 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possible, Members should return the file after each he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s hold onto chips meaning that transcripts cannot be processed in time for 7 day review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s with Member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ve to email Members regarding applications that need 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times an admissibility package is submitted during DR, yet Registry isn’t made a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1219320" y="1484280"/>
          <a:ext cx="7391160" cy="5062680"/>
        </p:xfrm>
        <a:graphic>
          <a:graphicData uri="http://schemas.openxmlformats.org/drawingml/2006/table">
            <a:tbl>
              <a:tblPr/>
              <a:tblGrid>
                <a:gridCol w="1301760"/>
                <a:gridCol w="6089400"/>
              </a:tblGrid>
              <a:tr h="111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dress Partner Inte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BSA requests could come at 9am, which helps secure interpr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 to read client id on file if not written by h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need better access to the detained side in Rexd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2:15:45Z</dcterms:created>
  <dc:creator>Andrew Milne</dc:creator>
  <dc:description/>
  <dc:language>en-US</dc:language>
  <cp:lastModifiedBy>Jarvis, Mark</cp:lastModifiedBy>
  <cp:lastPrinted>2014-02-14T15:43:21Z</cp:lastPrinted>
  <dcterms:modified xsi:type="dcterms:W3CDTF">2014-02-17T15:15:26Z</dcterms:modified>
  <cp:revision>747</cp:revision>
  <dc:subject/>
  <dc:title>PowerPoint Presentation</dc:title>
</cp:coreProperties>
</file>